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95584-F9AE-4638-A903-56B8E544D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89A21-6050-4B6E-87A9-42593F73D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E5068-E907-4ADF-A398-4CFF85058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EB9C9-E263-4AAD-8FF0-EE249750D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43755-8836-4FCB-891D-6B9FA22F3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3234B-B551-438A-AC64-21835F84D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18D2F-89A5-4469-9D06-637C31A9E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668A8-E5FE-4838-9279-9C07A07E7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395BB-C7C6-4E4F-BE7F-7AA124448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C386B-E7FA-466A-8B41-E0AB360FA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BB2EC-3BAE-4F22-B901-354CEAC5D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4B854-C907-4351-B863-F145BF3E5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98111-9570-4482-B1EA-8097055575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Times New Roman"/>
              </a:rPr>
              <a:t>3D-OSEM</a:t>
            </a:r>
            <a:br>
              <a:rPr sz="4400"/>
            </a:br>
            <a:r>
              <a:rPr b="0" lang="en-US" sz="4400" spc="-1" strike="noStrike">
                <a:solidFill>
                  <a:srgbClr val="663300"/>
                </a:solidFill>
                <a:latin typeface="Times New Roman"/>
              </a:rPr>
              <a:t>BOLOGNA - UC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447920" y="2514600"/>
            <a:ext cx="5943600" cy="2743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DERENZO050705_05Jul05_Acq00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Times New Roman"/>
              </a:rPr>
              <a:t>Energy Window = 100-700 ke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22824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Times New Roman"/>
              </a:rPr>
              <a:t>3D-OSEM BOLOGN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Montage_Bolonia_100keV" descr=""/>
          <p:cNvPicPr/>
          <p:nvPr/>
        </p:nvPicPr>
        <p:blipFill>
          <a:blip r:embed="rId1"/>
          <a:stretch/>
        </p:blipFill>
        <p:spPr>
          <a:xfrm>
            <a:off x="1066680" y="914400"/>
            <a:ext cx="7086600" cy="550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90720" y="45720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Times New Roman"/>
              </a:rPr>
              <a:t>3D-OSEM BOLOGN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Slice_Bolonia_100keV" descr=""/>
          <p:cNvPicPr/>
          <p:nvPr/>
        </p:nvPicPr>
        <p:blipFill>
          <a:blip r:embed="rId1"/>
          <a:stretch/>
        </p:blipFill>
        <p:spPr>
          <a:xfrm>
            <a:off x="1066680" y="2286000"/>
            <a:ext cx="3429000" cy="3429000"/>
          </a:xfrm>
          <a:prstGeom prst="rect">
            <a:avLst/>
          </a:prstGeom>
          <a:ln w="0">
            <a:noFill/>
          </a:ln>
        </p:spPr>
      </p:pic>
      <p:pic>
        <p:nvPicPr>
          <p:cNvPr id="47" name="Coronal_Bolonia_100keV" descr=""/>
          <p:cNvPicPr/>
          <p:nvPr/>
        </p:nvPicPr>
        <p:blipFill>
          <a:blip r:embed="rId2"/>
          <a:stretch/>
        </p:blipFill>
        <p:spPr>
          <a:xfrm>
            <a:off x="5029200" y="3124080"/>
            <a:ext cx="3429000" cy="17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95280" y="380880"/>
            <a:ext cx="64008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Times New Roman"/>
              </a:rPr>
              <a:t>3D-OSEM UC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Montage_UCM_100keV" descr=""/>
          <p:cNvPicPr/>
          <p:nvPr/>
        </p:nvPicPr>
        <p:blipFill>
          <a:blip r:embed="rId1"/>
          <a:stretch/>
        </p:blipFill>
        <p:spPr>
          <a:xfrm>
            <a:off x="1066680" y="1211400"/>
            <a:ext cx="7086600" cy="550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95280" y="380880"/>
            <a:ext cx="64008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Times New Roman"/>
              </a:rPr>
              <a:t>3D-OSEM UC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Coronal_UCM_100keV" descr=""/>
          <p:cNvPicPr/>
          <p:nvPr/>
        </p:nvPicPr>
        <p:blipFill>
          <a:blip r:embed="rId1"/>
          <a:stretch/>
        </p:blipFill>
        <p:spPr>
          <a:xfrm>
            <a:off x="5029200" y="3124080"/>
            <a:ext cx="3429000" cy="1752840"/>
          </a:xfrm>
          <a:prstGeom prst="rect">
            <a:avLst/>
          </a:prstGeom>
          <a:ln w="0">
            <a:noFill/>
          </a:ln>
        </p:spPr>
      </p:pic>
      <p:pic>
        <p:nvPicPr>
          <p:cNvPr id="52" name="Slice_UCM_100keV" descr=""/>
          <p:cNvPicPr/>
          <p:nvPr/>
        </p:nvPicPr>
        <p:blipFill>
          <a:blip r:embed="rId2"/>
          <a:stretch/>
        </p:blipFill>
        <p:spPr>
          <a:xfrm>
            <a:off x="1066680" y="2286000"/>
            <a:ext cx="3429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8T12:25:43Z</dcterms:created>
  <dc:creator>PET</dc:creator>
  <dc:description/>
  <dc:language>en-US</dc:language>
  <cp:lastModifiedBy>PET</cp:lastModifiedBy>
  <dcterms:modified xsi:type="dcterms:W3CDTF">2005-07-28T12:31:31Z</dcterms:modified>
  <cp:revision>4</cp:revision>
  <dc:subject/>
  <dc:title>OSEM-3D BOLONIA</dc:title>
</cp:coreProperties>
</file>